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8D2-A5B5-4B73-86A0-A76E0D5B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03F-12C8-4784-ADAA-843193AE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15F-0508-413C-9D98-382B2B7F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DA7-9CD2-463D-B1DE-EBE2651A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5A78-64EA-4A52-9FED-55D66106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E49A-2F16-46F2-920D-2EC4FEFA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DD3C-BBB1-40BF-9F0D-2D455305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523E-0BD7-4A6A-A1B3-EDD33469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0F92-7C24-4CEA-B0BA-66CC1022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EEF4-403B-4D5D-B57B-5D938B69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15C4-FA84-46B4-A759-265D222C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C38-CE4E-4AD4-B8C4-1A7F4F73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542B-79AA-4720-B0EE-CD223BDD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35FD-A9EC-4BF8-A1CE-328D821F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74AC-3321-4D52-BFC6-E40FB4A1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FBEC-FEA6-4712-82E2-961488A4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E24B-4038-4C17-861A-8AF4A446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4FF-5090-4DF0-922C-47B4E414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E56-853A-482F-90AB-8CBF587A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F19-799D-48E9-B577-07B15538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257-B2BF-4F0C-807E-3F1A2BC8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711-27D4-4A70-8DF4-CDB8D72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33F-0122-49E5-9DE8-05095A10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D59-B317-4575-9F87-41B71B7B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7E30-7D1D-4989-844C-420CB1688FC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6FBF-31B8-4989-963C-49A81615530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ederal District Cour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ederal District courts have original jurisdiction (first) in most federal ca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state has at least one Federal District court. (some mor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90 percent of all federal court work (300,000 cases per year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als Court Jud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udges do not decide guilt or innocence.  They rule on whether a person’s rights have been protected or whether there was a fair tri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udges may overturn the lower courts ruling, uphold it, or send the case back for a new tri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 Federal Cour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.S. Tax Court-hears tax law appe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.S. Court of Federal Claims-when citizens sue the gov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.S. Court of Military Appeals-for military people to appeal a court-marti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.S. Court of International Trade-trade disputes from tariff/trade law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 District Cour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Knoxville, T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828800" y="2552760"/>
            <a:ext cx="49356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trict Court Jud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court has at least 2 judg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ederal Court judges decide procedures in the court, explain the law in a case, punishment or fin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pointed by President, approved by the Sen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ther District Court Offic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ral Officials help District Court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gistrate-issues court orders, hears preliminary evidence to see if a case should be brought to tri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ther District Court Offic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.S. Attorney-the government’s lawyer, proves if a suspect commits a crime, has dozens of assistant U.S. attorneys who perform most of the trial wor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.S. Marshal-makes arrests, serves subpoen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.S. Courts of Appea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urts of Appeals have only appellate jurisdiction (appeals only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losing side in a case may decide to appeal a ruling based on wrong procedure, misapplication of the law, new evidence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.S. Courts of Appea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esent system established in 1891 to ease the burden of the Supreme Cour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oday 12 courts of appeals have  jurisdiction over a certain geographic area called a Circuit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ch court receives cases from the district courts in its own circui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 circuit…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09680" y="1749600"/>
            <a:ext cx="44197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als Court Jud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court has from 6 to 27 judg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pointed for lif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 Juries in appeals cour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ses are decided by a panel of at least 3 judg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5:44:38Z</dcterms:created>
  <dc:creator>shroberts</dc:creator>
  <dc:description/>
  <dc:language>en-US</dc:language>
  <cp:lastModifiedBy>SysAdmin</cp:lastModifiedBy>
  <dcterms:modified xsi:type="dcterms:W3CDTF">2011-10-04T16:23:35Z</dcterms:modified>
  <cp:revision>6</cp:revision>
  <dc:subject/>
  <dc:title>Federal District Courts</dc:title>
</cp:coreProperties>
</file>